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65E6-A974-4B1F-AFCB-F91D66C33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04C-E329-4A36-8410-5EE40C22CF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C73-1340-4588-891A-6FF4DEC3F47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8D5E-5AE1-46EE-A250-0782D219B9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693-44BB-4059-A0D3-E4E185E2B7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2F63-1798-498C-911C-9A19D96B76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2DE-185F-4B46-9E2F-BF9F60D6BE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7EF-7764-42F0-8E8F-DB2008DA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9FE-D646-4B5F-9FD9-98092146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DB57-2340-4119-B6E7-57EF0A46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9F38-EACF-4C1E-9378-6CC843F4E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E083-0D27-408F-9C3A-023C9687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978E-57EE-4CDB-8471-A795A2DF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F4EF-9D0C-4B9A-8BE7-C851A45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2138-EE7A-4720-86BA-95B91AC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0297-625D-4512-B35B-0453A53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ABD-B338-4CE1-853E-956AF07D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FF75-ECA4-4F7E-893A-D7F876B1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6C2-9F03-4697-8FDB-CABD1C99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C40F-284A-426B-B73D-3495998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FF60-4410-45A5-9092-6003ED01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5318-B807-408E-8A30-77749D19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D89C-F22D-482B-8934-A308A062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8C6B-799F-4F29-BED8-049D76E1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570A7-DCA7-4199-8504-21E54325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7614-9C25-4158-AA00-CB65902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CE70E-50E9-4698-B2A2-82DDF178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8941-47FF-4611-BF8A-512F6E01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7726-BC19-4D8E-A424-499D90C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C58-3388-4DA3-BBDC-1F2C9D99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52D99-FDE8-417F-875D-9C92DB8B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371D8-1D5A-450E-8BD7-BE648513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9D55E-08D4-4DEC-B099-7F1CDAC3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8E631-828B-4B5D-BE2E-4FE3DA02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06621-1546-46E0-9ACA-B365F1E0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CF5D-BB5E-4AC0-95BB-12D11646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2337-F951-41AC-BB51-2EB304D2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8137A-7C54-4DCF-9139-1F413512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5DBA4-8129-4184-9876-1AE816DE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4D07-B702-49F0-BD90-55CA9F51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358-74EB-46E5-8286-93B84913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89301-53E5-4290-B52B-660F0ED1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B97E-798F-481D-BF29-24408726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4B41-F2DF-4600-A5C7-4272AB1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E6DAD-6C54-4E7A-8CBF-2CE17D7A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5CC68-FD93-4528-A7B5-9B9DEE9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3228-5E35-458C-9515-9795B132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689B4-77E2-4CD3-A0B5-AAD5965C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61DF1-A0BC-4C77-BE99-C7DA8CB2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C6DC5-7336-424B-A67C-F475E3EF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7D0AD-F686-4AA3-B55E-6455E94F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2A7-A618-4788-8824-F0D36ED8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1C15-593A-44D0-8E7C-76E1E234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28ADD-E239-4295-A1D6-1FC9DB1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95791-D815-449D-A9B2-E8913E1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5CE3-3499-46D2-9D1D-66849FCE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5B70-19E7-4D9F-BB87-72E7B0DD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F4F0F-DF1E-4859-86F0-0A90E7A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BD7CF-A530-4022-A34B-41A7FD3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B3850-8AD7-438B-8F01-F647257B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0CB67-BB60-4224-B288-4DD8C08E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288D3-1E2E-41C5-A42B-15BB4CCB0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CB1-4E54-4DCB-9F11-B9173726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52D0-3FC8-414E-90B0-DAAE2CB6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8CB43-6EBB-4483-AB35-560B4757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7D9D4-FAD2-4236-986C-7D71049D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AAF50-F5BE-442B-80B2-CA953FC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9209E-265D-4B99-AECB-2BE0189D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7FAEA-99BD-4605-99CF-8E259280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87C7-85E9-4871-92E4-5651AD50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69399-B1F2-4EAF-BA8F-F76269B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FCD7-5CD7-4C5A-87CE-098839D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0AC3-BDDF-4FAC-ADB5-8EEAC334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C81-9C0F-4BB5-B8E7-7A10FF4B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93D7D-BEC6-423B-93C9-24A3CA1C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7E42-7238-4017-B760-D2941972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6D9EE-36D4-4AA4-A658-28F20D6E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E428F-BCEA-43EC-8093-95F20294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B6E43-B620-40D3-B730-976ED71A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4F97F-7708-4369-99D2-F8455C40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0845E-5046-44F4-86B1-BF8BD700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66A9-BDA5-44C3-B781-6D310012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CF5B8-DB08-4ED5-80EB-E55F6231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EE3C-FD58-437F-A7AC-FAAA70EC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A28-1F10-4C7D-8232-6D9D196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3EAC-25DE-42EA-B870-83F363B6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9EFB3-45D9-4FA7-AF38-5759CC02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E99EF-35D3-4568-AB5E-5507E55E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6B553-46B1-4DD4-8D52-F0AFD74D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E640-9777-4BA1-846A-798F2D12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F9B-6860-4A6F-9A45-00CDD463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C04-FC6D-4BAD-84E9-F50E597384D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1A5B-25F7-4E2A-80F9-268F24BF42D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017-AD2D-4F94-A369-846EADFC9489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8018-241F-47E2-AC17-621C0DBCCEF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D7F5-B8F0-42C5-AFA5-98645D91EB4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5095-41CA-4CB2-9100-D8BB2BFF2D07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3BB1-583F-44D1-A8F9-0086F97F5659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3" descr=""/>
          <p:cNvPicPr/>
          <p:nvPr/>
        </p:nvPicPr>
        <p:blipFill>
          <a:blip r:embed="rId1"/>
          <a:stretch/>
        </p:blipFill>
        <p:spPr>
          <a:xfrm>
            <a:off x="212760" y="262080"/>
            <a:ext cx="8547120" cy="1407960"/>
          </a:xfrm>
          <a:prstGeom prst="rect">
            <a:avLst/>
          </a:prstGeom>
          <a:ln w="0">
            <a:noFill/>
          </a:ln>
        </p:spPr>
      </p:pic>
      <p:pic>
        <p:nvPicPr>
          <p:cNvPr id="309" name="Content Placeholder 11" descr="art-mondrian.jpg"/>
          <p:cNvPicPr/>
          <p:nvPr/>
        </p:nvPicPr>
        <p:blipFill>
          <a:blip r:embed="rId2"/>
          <a:stretch/>
        </p:blipFill>
        <p:spPr>
          <a:xfrm>
            <a:off x="5867280" y="1752480"/>
            <a:ext cx="146700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10" descr="art-miro.jpg"/>
          <p:cNvPicPr/>
          <p:nvPr/>
        </p:nvPicPr>
        <p:blipFill>
          <a:blip r:embed="rId3"/>
          <a:stretch/>
        </p:blipFill>
        <p:spPr>
          <a:xfrm>
            <a:off x="1752480" y="1752480"/>
            <a:ext cx="1305000" cy="19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art-pollock.jpg"/>
          <p:cNvPicPr/>
          <p:nvPr/>
        </p:nvPicPr>
        <p:blipFill>
          <a:blip r:embed="rId4"/>
          <a:stretch/>
        </p:blipFill>
        <p:spPr>
          <a:xfrm>
            <a:off x="1714680" y="411480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3" descr="vangogh.jpg"/>
          <p:cNvPicPr/>
          <p:nvPr/>
        </p:nvPicPr>
        <p:blipFill>
          <a:blip r:embed="rId5"/>
          <a:stretch/>
        </p:blipFill>
        <p:spPr>
          <a:xfrm>
            <a:off x="5791320" y="3962520"/>
            <a:ext cx="1581120" cy="190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Placeholder 6" descr="miro-sample.jpg"/>
          <p:cNvPicPr/>
          <p:nvPr/>
        </p:nvPicPr>
        <p:blipFill>
          <a:blip r:embed="rId2"/>
          <a:stretch/>
        </p:blipFill>
        <p:spPr>
          <a:xfrm>
            <a:off x="2286000" y="181080"/>
            <a:ext cx="4791240" cy="570996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Action Button: Home 7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PhotoFiltre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9" name="Picture Placeholder 7" descr="mondrian.jpg"/>
          <p:cNvPicPr/>
          <p:nvPr/>
        </p:nvPicPr>
        <p:blipFill>
          <a:blip r:embed="rId2"/>
          <a:srcRect l="0" t="130" r="0" b="13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20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3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927000" cy="66261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by Mrs. Sedgwick at jacksonpollock.org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Placeholder 6" descr="pollock-sample.jpg"/>
          <p:cNvPicPr/>
          <p:nvPr/>
        </p:nvPicPr>
        <p:blipFill>
          <a:blip r:embed="rId2"/>
          <a:srcRect l="4883" t="0" r="4883" b="0"/>
          <a:stretch/>
        </p:blipFill>
        <p:spPr>
          <a:xfrm>
            <a:off x="1138320" y="374760"/>
            <a:ext cx="7334280" cy="5486400"/>
          </a:xfrm>
          <a:prstGeom prst="rect">
            <a:avLst/>
          </a:prstGeom>
          <a:ln w="0">
            <a:noFill/>
          </a:ln>
        </p:spPr>
      </p:pic>
      <p:sp>
        <p:nvSpPr>
          <p:cNvPr id="324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3" descr=""/>
          <p:cNvPicPr/>
          <p:nvPr/>
        </p:nvPicPr>
        <p:blipFill>
          <a:blip r:embed="rId1"/>
          <a:stretch/>
        </p:blipFill>
        <p:spPr>
          <a:xfrm>
            <a:off x="212760" y="115920"/>
            <a:ext cx="927000" cy="665640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142640" y="5866920"/>
            <a:ext cx="7334280" cy="685800"/>
          </a:xfrm>
          <a:prstGeom prst="rect">
            <a:avLst/>
          </a:prstGeom>
          <a:solidFill>
            <a:srgbClr val="ff388c">
              <a:alpha val="15000"/>
            </a:srgbClr>
          </a:solidFill>
          <a:ln w="9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Created in KidPix by Mrs. Sedgwick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Action Button: Home 8">
            <a:hlinkClick r:id="" action="ppaction://hlinkshowjump?jump=firs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Placeholder 14" descr="vangogh-sample.jpg"/>
          <p:cNvPicPr/>
          <p:nvPr/>
        </p:nvPicPr>
        <p:blipFill>
          <a:blip r:embed="rId2"/>
          <a:srcRect l="3043" t="0" r="3043" b="0"/>
          <a:stretch/>
        </p:blipFill>
        <p:spPr>
          <a:xfrm>
            <a:off x="1447920" y="990720"/>
            <a:ext cx="6491160" cy="485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s slide should include which of the art work that you did is your favorite and why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2:49:07Z</dcterms:created>
  <dc:creator>Sedgwick</dc:creator>
  <dc:description/>
  <dc:language>en-US</dc:language>
  <cp:lastModifiedBy>Sedgwick</cp:lastModifiedBy>
  <dcterms:modified xsi:type="dcterms:W3CDTF">2008-03-11T06:41:08Z</dcterms:modified>
  <cp:revision>6</cp:revision>
  <dc:subject/>
  <dc:title>My Gallery of Fine Computer Art</dc:title>
</cp:coreProperties>
</file>